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BD72-989E-41F0-921F-995782BB9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2210-975D-4420-810F-7547E66EA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1564-EB11-47E1-B06A-91E14507E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0ECA-E9A1-4E69-964D-753001AAF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6A6C-4832-45C5-BDD6-C4F48DD7A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6293-8907-499C-89B0-03689B5AB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39A7-35C7-4050-B3B0-E4EA8145C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511F-C767-4CB5-805F-08A30C51D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6988-1E06-4964-9847-E143315CD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81A6-FF5F-4B61-985C-0DAB5011F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ACFD-B3C0-4D10-8CD2-90E359867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B7D8-B59A-487A-AC5C-DCFE6C45C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3E32B-A29F-4C51-A048-7AB7E8FF8D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07160" y="490680"/>
            <a:ext cx="8274600" cy="60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ld colloids on mica covered with polylysi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 ul polylysine (3.5 mg/ml in d.i. wat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 freshly cleaved mica for 1 min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inse with d.i. water and dry in nitrogen 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 thi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 ul goild colloids (fridge 702, Sigma *) dilluted 1:10 in d.i. wat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 5 minu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inse with d.i. water and dry in nitrogen 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ore the sample in the desicc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MAGE: see next slide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*Gold colloid 5 nm, Sigma G-14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centration approx. 0.01% as HAuCl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f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iophysical Journal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992-997, 1993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on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colloids1" descr=""/>
          <p:cNvPicPr/>
          <p:nvPr/>
        </p:nvPicPr>
        <p:blipFill>
          <a:blip r:embed="rId1"/>
          <a:stretch/>
        </p:blipFill>
        <p:spPr>
          <a:xfrm>
            <a:off x="347760" y="260280"/>
            <a:ext cx="844704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7:48:43Z</dcterms:created>
  <dc:creator>Dionne</dc:creator>
  <dc:description/>
  <dc:language>en-US</dc:language>
  <cp:lastModifiedBy>Henriette Jensenius</cp:lastModifiedBy>
  <dcterms:modified xsi:type="dcterms:W3CDTF">2003-05-21T09:51:10Z</dcterms:modified>
  <cp:revision>3</cp:revision>
  <dc:subject/>
  <dc:title>PowerPoint Presentation</dc:title>
</cp:coreProperties>
</file>